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807-B2AC-41BA-9FC8-C0311A1E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1EF-5850-4ADF-8037-D6C2F689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C3A-D199-4DDA-A2B8-4BF63979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9D1-13DF-4644-A55E-E236536D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A6AB-0472-4446-B306-FE2A4633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5C88-CAAF-411C-B46F-7CC24D73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A3B-7DFA-4541-AB22-1FBC412C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13F-BA78-4B75-87DA-23B4CAC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B2EC-7403-4F99-8A9C-80AEE07F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1B9-0D2E-4396-A46D-BAFD6708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E7AE-7635-45C0-9E99-DC25812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DE5-FF32-453A-9AEC-8513AC0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AF76-0F07-4EA2-849B-7E5120C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BED-F01A-4D65-90DA-136DC834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9E38-6D10-49A8-8CA5-C6042478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D4C3-6020-4049-956F-9A14FE9B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670D-A503-4B3F-B04E-6E273769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B8E-5485-4831-A774-4DF370E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B22-1465-4662-8602-9D6C19F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0FF-A575-4E80-87B5-1522F999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456-0F3E-423C-B1C4-54F7621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B6B-1D56-4543-B71B-5AB75A6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CED-B2A0-4350-8BE3-273947F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5BA-430E-424B-B421-1511EE8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4D22-FC14-401D-B558-7BC3F840A9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7462-A769-485C-BED9-5D15436B6A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Vowel Char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Short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Diphthong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5942880" y="1827000"/>
            <a:ext cx="14626080" cy="82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038480" y="4495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2956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1676520"/>
            <a:ext cx="838080" cy="7617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514600"/>
            <a:ext cx="838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352680"/>
            <a:ext cx="83808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191120"/>
            <a:ext cx="83844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5410080"/>
            <a:ext cx="83808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029200"/>
            <a:ext cx="838440" cy="762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190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R’ Controlled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, ir, ur (these three sound similar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86200" y="3657600"/>
            <a:ext cx="838080" cy="76212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809880"/>
            <a:ext cx="83844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48769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1828800"/>
            <a:ext cx="83808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743200"/>
            <a:ext cx="8384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8779" t="45868" r="3127" b="0"/>
          <a:stretch/>
        </p:blipFill>
        <p:spPr>
          <a:xfrm>
            <a:off x="7315200" y="41148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14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5943600"/>
            <a:ext cx="838080" cy="7621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105520"/>
            <a:ext cx="83808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267080"/>
            <a:ext cx="83808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42900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779" t="45868" r="3127" b="0"/>
          <a:stretch/>
        </p:blipFill>
        <p:spPr>
          <a:xfrm>
            <a:off x="228600" y="51814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96080" y="358128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419720"/>
            <a:ext cx="83844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Long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4:08Z</dcterms:created>
  <dc:creator>KKetchen</dc:creator>
  <dc:description/>
  <dc:language>en-US</dc:language>
  <cp:lastModifiedBy>KKetchen</cp:lastModifiedBy>
  <dcterms:modified xsi:type="dcterms:W3CDTF">2012-03-14T13:56:17Z</dcterms:modified>
  <cp:revision>18</cp:revision>
  <dc:subject/>
  <dc:title>Slide 1</dc:title>
</cp:coreProperties>
</file>